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E33E-4A35-4A17-BBB7-5BD5D255A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EF35-A527-479E-A58B-0F1A2B00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6585-461C-4B85-B892-0212113C7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060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6752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04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060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6752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85FF-9D5B-4E5F-BA44-E4438C23B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F454-87A8-48C8-930D-3C7DB4AD8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25FB-345A-4243-B7FB-2B3C1D5B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582D-62CF-4A2F-83A4-0744E75E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901E-6002-404B-AA9F-BC94A397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0C08-5ED5-4A73-8016-7B0EE3CD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040" y="162000"/>
            <a:ext cx="77691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F2DB-6457-4EF3-AA54-B0DB637D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FA5F-CB48-4D20-8945-2B0F3817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4795-EAD3-4C29-8D59-9BEABA59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3E55-9241-4C0D-9FED-9DB12503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BA10-144E-4C98-A06A-FB9730FD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D72D-BFB1-4FD6-92C9-5A6012C3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CFEA-7638-4998-BFCB-90F564EF4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060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67520" y="15998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04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060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67520" y="3965040"/>
            <a:ext cx="250128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7DAE-41D7-4B45-82BD-F02BB8B33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6CDF-7657-42F9-84DA-D8102760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70E4-40F5-47F3-90CB-35B39D73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EFD2-F11E-43E6-AC31-A3F0F8A8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040" y="162000"/>
            <a:ext cx="776916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F49F-EE87-42A5-99EB-BF39798B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4E41-52FA-47D3-B9AA-0847E221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5280" y="39650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46BA-0A9E-4FB0-9FCA-0598A7EC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599840"/>
            <a:ext cx="3791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040" y="3965040"/>
            <a:ext cx="77691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6A69-58DB-48F5-904D-EDCC4DF4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144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162000"/>
            <a:ext cx="776916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769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782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160"/>
            <a:ext cx="296892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3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04EF3-3937-4FF9-A47B-5EE30D86FC4C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144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144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400" y="1143000"/>
            <a:ext cx="662616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960" y="625140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480" y="6248160"/>
            <a:ext cx="28922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3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F4AD00B-5CFF-4F0D-9159-3A165C5F9546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geografianair9.blogspot.com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prof-nair-palacio.wikispaces.com/" TargetMode="External"/><Relationship Id="rId2" Type="http://schemas.openxmlformats.org/officeDocument/2006/relationships/hyperlink" Target="http://picoli.wikispaces.com/" TargetMode="External"/><Relationship Id="rId3" Type="http://schemas.openxmlformats.org/officeDocument/2006/relationships/hyperlink" Target="http://kennedyab.wikispaces.com/" TargetMode="External"/><Relationship Id="rId4" Type="http://schemas.openxmlformats.org/officeDocument/2006/relationships/hyperlink" Target="http://teachermarina.wikispaces.com/" TargetMode="External"/><Relationship Id="rId5" Type="http://schemas.openxmlformats.org/officeDocument/2006/relationships/hyperlink" Target="http://consumoconsciente01.wikispaces.com/" TargetMode="External"/><Relationship Id="rId6" Type="http://schemas.openxmlformats.org/officeDocument/2006/relationships/hyperlink" Target="http://projetoeletricidade.wikispaces.com/" TargetMode="External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6792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330033"/>
                </a:solidFill>
                <a:latin typeface="Times New Roman"/>
              </a:rPr>
              <a:t>Escola Estadual Profª. Nair Palácio de Souza</a:t>
            </a:r>
            <a:br>
              <a:rPr sz="2400"/>
            </a:br>
            <a:r>
              <a:rPr b="1" lang="pt-BR" sz="2400" spc="-1" strike="noStrike">
                <a:solidFill>
                  <a:srgbClr val="330033"/>
                </a:solidFill>
                <a:latin typeface="Times New Roman"/>
              </a:rPr>
              <a:t>apresenta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142640" y="403848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ROJETO DOS PROFESSORES DA SALA DE TECNOLOGIAS EDUCACIONA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 ENCONTRO- PSTE -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1800" y="-1800"/>
            <a:ext cx="4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20720" y="324648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592776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va Andradina-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Professores participant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638680" y="4229280"/>
            <a:ext cx="2884680" cy="2162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048120" y="304812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85800" y="1523880"/>
            <a:ext cx="2540160" cy="2076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5638680" y="1523880"/>
            <a:ext cx="2997360" cy="1847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685800" y="4038480"/>
            <a:ext cx="2590920" cy="21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urso Atac I e Linux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431040" y="1600200"/>
            <a:ext cx="2463840" cy="1981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581280" y="1522440"/>
            <a:ext cx="2438640" cy="2286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949320" y="2746440"/>
            <a:ext cx="2387520" cy="21906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3613320" y="4525920"/>
            <a:ext cx="2286000" cy="1792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6402240" y="3886200"/>
            <a:ext cx="2311560" cy="20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61760" y="1599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Professores da STE da E.E. Profª Nair Palácio de Souza agradecem a todos os participantes desse projeto e espera no 2º semestre a adesão de todos os professores, para a construção de suas páginas, seus sites, blogs, enfim, que façam da WEB um meio de comunicação e transmissão de conhecimentos aos seus alu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400" spc="-1" strike="noStrike">
                <a:solidFill>
                  <a:srgbClr val="330033"/>
                </a:solidFill>
                <a:latin typeface="Times New Roman"/>
              </a:rPr>
              <a:t>PROJETO: NAIR PALÁCIO NA WEB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25909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jeto desenvolvido no 1º semestre do ano letivo de 2009 pelos professores: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Fernando Milhorança, José Marcelo Gomes e Marina Alessandra de Oliveira,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tuantes e responsáveis pela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Sala de Tecnologias Educacion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cola Estadual Profª. Nair Palácio de Sou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just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just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just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escolha deste projeto tem como principal finalidade a oportunização do conhecimento tecnológico para  todos os regentes de nossa escola, possibilitando o acesso a novas formas de transmissão de conhecimento através de Webtecnologias, tais co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just"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blog, wikispaces,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 outras ferramentas indispensáveis para o uso adequado da Sala de Tecnolog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just"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just"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tend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fessores Regentes da Educação Básic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ordenado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retores da Escola Estadual Profª. Nair Palácio de Souz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Objetivos Específic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2800" indent="-71280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819000"/>
                <a:tab algn="l" pos="1268280"/>
                <a:tab algn="l" pos="1717560"/>
                <a:tab algn="l" pos="2166840"/>
                <a:tab algn="l" pos="2616120"/>
                <a:tab algn="l" pos="3065400"/>
                <a:tab algn="l" pos="351468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9354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centivar o uso adequado da Sala de Tecnologias Educacionais valorizando o processo de ensino-aprendizag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0" indent="-71280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819000"/>
                <a:tab algn="l" pos="1268280"/>
                <a:tab algn="l" pos="1717560"/>
                <a:tab algn="l" pos="2166840"/>
                <a:tab algn="l" pos="2616120"/>
                <a:tab algn="l" pos="3065400"/>
                <a:tab algn="l" pos="351468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9354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truir e alimentar dentro da rede virtual sites, blogs, páginas na internet que possibilitem a interação entre professor da STE, professor regente e alun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0" indent="-71280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819000"/>
                <a:tab algn="l" pos="1268280"/>
                <a:tab algn="l" pos="1717560"/>
                <a:tab algn="l" pos="2166840"/>
                <a:tab algn="l" pos="2616120"/>
                <a:tab algn="l" pos="3065400"/>
                <a:tab algn="l" pos="351468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9354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ientar e dar suporte técnico-pedagógico na elaboração e realização de projetos educacionais voltados ao uso das novas tecnolog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0" indent="-71280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819000"/>
                <a:tab algn="l" pos="1268280"/>
                <a:tab algn="l" pos="1717560"/>
                <a:tab algn="l" pos="2166840"/>
                <a:tab algn="l" pos="2616120"/>
                <a:tab algn="l" pos="3065400"/>
                <a:tab algn="l" pos="3514680"/>
                <a:tab algn="l" pos="3963960"/>
                <a:tab algn="l" pos="4413240"/>
                <a:tab algn="l" pos="4862520"/>
                <a:tab algn="l" pos="5311800"/>
                <a:tab algn="l" pos="5761080"/>
                <a:tab algn="l" pos="6210360"/>
                <a:tab algn="l" pos="6659640"/>
                <a:tab algn="l" pos="7108920"/>
                <a:tab algn="l" pos="7558200"/>
                <a:tab algn="l" pos="8007480"/>
                <a:tab algn="l" pos="8456760"/>
                <a:tab algn="l" pos="8906040"/>
                <a:tab algn="l" pos="9354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vulgar o nome da escola na Web, tornando público todos os trabalhos, projetos, aulas desenvolvidos na Sala de Tecnologias Educacionais, promovendo assim o reconhecimento da comunidade pelas nossas ações educacion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etodolog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icialmente serão feitas reuniões entre os professores da Sala de Tecnologias dos três períodos para discussão sobre os projetos a serem divulgados e na elaboração das ações desenvolvi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ós essas reuniões os PSTES orientarão os professores regentes a  participarem dos cursos oferecidos pela STE: Wikispaces/ Blog para disponibilizarem na Internet seus espaços virtua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ós a realização dos cursos cada professor participante procurará a STE da escola em sua hora atividade ou tempo livre para divulgar em seus espaços virtuais, atividades de complementação de suas aulas e projetos, fotos, etc. Logo após esse período de orientação os professores da STE organizarão um fichamento dos sites, blogs e wikis criado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86040"/>
            <a:ext cx="91440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500" spc="-1" strike="noStrike">
                <a:solidFill>
                  <a:srgbClr val="330033"/>
                </a:solidFill>
                <a:latin typeface="Times New Roman"/>
              </a:rPr>
              <a:t>Resultados</a:t>
            </a:r>
            <a:br>
              <a:rPr sz="2500"/>
            </a:br>
            <a:r>
              <a:rPr b="1" lang="pt-BR" sz="2500" spc="-1" strike="noStrike">
                <a:solidFill>
                  <a:srgbClr val="330033"/>
                </a:solidFill>
                <a:latin typeface="Times New Roman"/>
              </a:rPr>
              <a:t>Sites e blogs desenvolvidos pelos por professores regentes no ambiente da STE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Lista de endereços eletrônicos disponibilizados pela Escola Estadual Profª Nair Palácio de Souza na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W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l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http://blogescolanairpalacio.blogspot.com/=&gt; Divulga todos os projetos, eventos da escola, aulas na Sala de Tecnologias Educacionais, além de atuar como página principal, onde se encontra todos os outros blogs em forma de links a serem acess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http://jornalvirtualnairpalaciodesouza.blogspot.com/=&gt; Blog criado pela Profª Andréia Erdman para divulgação das produções textuais, aulas interessantes, notícias e novidades relacionadas ao uso da Língua Portugue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http://projetoaguaevida.blogspot.com/=&gt; Blog criado para postagem de todas as atividades desenvolvidas no Projeto: Água e Vida, desenvolvido no 1º Bimestre pelos professores da área de Ciências Humanas e Fís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http://geografianair8.blogspot.com /=&gt; Blog criado com a finalidade de postagens das atividades a serem trabalhadas pelo professor Adevair, na disciplina de Geografia, divulgação de conteúdo para avaliações, gabaritos de provas realizadas, sugestões de sites para pesquisas, etc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geografianair9.blogspot.com/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=&gt; Blog criado com a finalidade de postagens das atividades a serem trabalhadas pelo professor Adevair, na disciplina de Geografia, divulgação de conteúdo para avaliações, gabaritos de provas realizadas, sugestões de sites para pesquisas, etc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neidesociologianair.blogspot.com/=&gt; Espaço destinado a postagens de vídeos, slides, textos produzidos pelos alunos da Profª Neide Rosenbaum, na disciplina de Sociologia, com maior destaque para o projeto: “Solidariedad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blogprofmarciafilo.blogspot.com/=&gt; Espaço destinado a postagens de vídeos, slides, textos produzidos pelos alunos da Profª Márcia Guimarães, na disciplina de Filosof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blogprofessoramarina.blogspot.com/=&gt; Espaço destinado a postagens de slides, vídeos, conteúdos relativos às disciplinas de Língua Portuguesa e Literatura, criado pela Profª Marina, atuante na Sala de Tecnologias Educacion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91440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áginas no W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prof-nair-palacio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picoli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kennedyab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teachermarina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consumoconsciente01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http://projetoeletricidade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profkelle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lslnb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marcelogomes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prorosenbaum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jandrey.wikispac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ttp://tecnicomarketing.wikispaces.com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roinfo</cp:lastModifiedBy>
  <cp:revision>0</cp:revision>
  <dc:subject/>
  <dc:title>PowerPoint Presentation</dc:title>
</cp:coreProperties>
</file>